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EE17-A15A-4889-A7AD-ADEFCD09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4C4-7C5F-4DD7-ABE4-16B2C11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30B-652F-4B19-B8D5-7FC069F6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D90-18BB-4E51-9D07-AA30DEA1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49D4-AF8F-4E77-8A29-7AE6661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A41-646B-40EA-B1CF-37F3751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0CAD-16E8-465E-BD61-328EB712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4DB-332C-4644-9D24-962751B2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9041-4189-4028-B6D1-CA6457EB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077E-4C88-45FA-91AF-29051F0F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335D-C22C-4C30-8B39-FC1272F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34D-F73D-439E-9271-F6D278B4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5DA4-5913-4F9C-95C9-61FA72A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CEDF-66BB-4184-A5DE-14FAC76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256B-F5AA-40B0-8A86-A9F7E374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5D1-5865-4184-A19E-F3C1420E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C60-8689-45A2-B04C-F6F67300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396-AC2A-490E-99AC-7112750C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6633-27C6-451E-BB54-B7A01882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F173-1415-43A5-A2FD-D073CF6C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3E8-DF07-4127-9548-4EA12FFC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88FE-5074-45CA-9B37-39224FD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27C-9B0A-40CD-B141-3404D5C5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79D-C179-4C78-B078-7FC812C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ADE-5FBF-476B-92F7-8A4A3DD255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586-0CB9-4000-8B52-1A305CE29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28605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Olwyn roulette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4000" y="1125360"/>
            <a:ext cx="76849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olwyn roulette wedi ei rhifo o 1 i 36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Aaron yn dewis rhif ar yr olwyn. Defnyddiwch y wybodaeth ganlynol i benderfynu pa rif ddewisiodd Aar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Mae’r rhif yn rhanadwy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â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Mae swm y digidau rhwng 4 ac 8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33"/>
                </a:solidFill>
                <a:latin typeface="Comic Sans MS"/>
              </a:rPr>
              <a:t>Mae’n odrif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3ff"/>
                </a:solidFill>
                <a:latin typeface="Comic Sans MS"/>
              </a:rPr>
              <a:t>Mae lluoswm y digidau rhwng 4 ac 8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40360" y="3500280"/>
            <a:ext cx="2737080" cy="24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55:57Z</dcterms:created>
  <dc:creator>Carwyn</dc:creator>
  <dc:description/>
  <dc:language>en-US</dc:language>
  <cp:lastModifiedBy>Carwyn</cp:lastModifiedBy>
  <dcterms:modified xsi:type="dcterms:W3CDTF">2008-12-05T19:07:57Z</dcterms:modified>
  <cp:revision>2</cp:revision>
  <dc:subject/>
  <dc:title>Olwyn roulette</dc:title>
</cp:coreProperties>
</file>